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5A5B-8C6C-434B-9098-860AB514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FE2E-F9FB-4E35-8067-EFB21F33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F9A6-59E8-4F3D-B90E-2A10D744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5C70-1710-4DDE-B527-C4D1DDA72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3015-D73A-4FA5-BEE6-F9E266CC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61D3-8E7A-4E00-AE1D-B8C91432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AB8C-3BB7-416F-BB6C-E6798751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7147-921C-409F-86F9-00C16126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C8BB-5171-479A-AF04-6879CE5E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193A-2136-4A87-8B8D-13C47D90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200D-5DD2-469D-BF8C-CF54AAF9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4E71-1ABA-4E44-B375-B47081C6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0506-9BDB-44C1-BD5E-805F6CF3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2323-6FE5-484A-B48E-7E7AB9A9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FBD7-8C98-40F9-A200-4570E20F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939C-9E40-4B48-A790-21429F2C5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17E6-2BA6-4A7D-B33D-BEBD1D8D8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3245-FA81-4444-BD33-B24ED9AD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D473-5FCD-411B-9FE2-050A138C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F4B9-693D-4702-BD71-DA9A451B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EA36-1AC8-4933-9DB0-B7395008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6901-9F83-4D4A-812F-FD99EA6F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110E-1B2D-4928-AE22-FB18DCA1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DA90-F441-4527-939B-49567944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9A63-BF66-4834-95BA-3C4D34B2A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3B00-0135-47B6-8787-2A65288D3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10480" cy="2273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00200" y="487692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Monotype Corsiva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re</a:t>
            </a:r>
            <a:r>
              <a:rPr b="1" lang="en-US" sz="3200" spc="-1" strike="noStrike">
                <a:solidFill>
                  <a:srgbClr val="703dff"/>
                </a:solidFill>
                <a:latin typeface="Monotype Corsiva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gy</a:t>
            </a:r>
            <a:r>
              <a:rPr b="1" lang="en-US" sz="3200" spc="-1" strike="noStrike">
                <a:solidFill>
                  <a:srgbClr val="703dff"/>
                </a:solidFill>
                <a:latin typeface="Monotype Corsiva"/>
              </a:rPr>
              <a:t> Q. E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nci</a:t>
            </a:r>
            <a:r>
              <a:rPr b="1" lang="en-US" sz="3200" spc="-1" strike="noStrike">
                <a:solidFill>
                  <a:srgbClr val="703dff"/>
                </a:solidFill>
                <a:latin typeface="Monotype Corsiva"/>
              </a:rPr>
              <a:t>na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Monotype Corsiva"/>
              </a:rPr>
              <a:t>Gr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ad</a:t>
            </a:r>
            <a:r>
              <a:rPr b="1" lang="en-US" sz="3200" spc="-1" strike="noStrike">
                <a:solidFill>
                  <a:srgbClr val="703dff"/>
                </a:solidFill>
                <a:latin typeface="Monotype Corsiva"/>
              </a:rPr>
              <a:t>e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5</a:t>
            </a:r>
            <a:r>
              <a:rPr b="1" lang="en-US" sz="3200" spc="-1" strike="noStrike">
                <a:solidFill>
                  <a:srgbClr val="703dff"/>
                </a:solidFill>
                <a:latin typeface="Monotype Corsiva"/>
              </a:rPr>
              <a:t>, R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oo</a:t>
            </a:r>
            <a:r>
              <a:rPr b="1" lang="en-US" sz="3200" spc="-1" strike="noStrike">
                <a:solidFill>
                  <a:srgbClr val="703dff"/>
                </a:solidFill>
                <a:latin typeface="Monotype Corsiva"/>
              </a:rPr>
              <a:t>m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Monotype Corsiva"/>
              </a:rPr>
              <a:t>J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un</a:t>
            </a:r>
            <a:r>
              <a:rPr b="1" lang="en-US" sz="3200" spc="-1" strike="noStrike">
                <a:solidFill>
                  <a:srgbClr val="703dff"/>
                </a:solidFill>
                <a:latin typeface="Monotype Corsiva"/>
              </a:rPr>
              <a:t>e 2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01</a:t>
            </a:r>
            <a:r>
              <a:rPr b="1" lang="en-US" sz="3200" spc="-1" strike="noStrike">
                <a:solidFill>
                  <a:srgbClr val="703dff"/>
                </a:solidFill>
                <a:latin typeface="Monotype Corsiva"/>
              </a:rPr>
              <a:t>1 t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o </a:t>
            </a:r>
            <a:r>
              <a:rPr b="1" lang="en-US" sz="3200" spc="-1" strike="noStrike">
                <a:solidFill>
                  <a:srgbClr val="703dff"/>
                </a:solidFill>
                <a:latin typeface="Monotype Corsiva"/>
              </a:rPr>
              <a:t>J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an</a:t>
            </a:r>
            <a:r>
              <a:rPr b="1" lang="en-US" sz="3200" spc="-1" strike="noStrike">
                <a:solidFill>
                  <a:srgbClr val="703dff"/>
                </a:solidFill>
                <a:latin typeface="Monotype Corsiva"/>
              </a:rPr>
              <a:t>ua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ry</a:t>
            </a:r>
            <a:r>
              <a:rPr b="1" lang="en-US" sz="3200" spc="-1" strike="noStrike">
                <a:solidFill>
                  <a:srgbClr val="703dff"/>
                </a:solidFill>
                <a:latin typeface="Monotype Corsiva"/>
              </a:rPr>
              <a:t> 2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0</a:t>
            </a:r>
            <a:r>
              <a:rPr b="1" lang="en-US" sz="3200" spc="-1" strike="noStrike">
                <a:solidFill>
                  <a:srgbClr val="703dff"/>
                </a:solidFill>
                <a:latin typeface="Monotype Corsiv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52280" y="1981080"/>
            <a:ext cx="87631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regory Elementary School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791320" y="0"/>
            <a:ext cx="3352680" cy="26668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75742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09480" y="236232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Book Antiqu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Parts of Speech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Book Antiqu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eech Improv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Book Antiqu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alog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Book Antiqu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ading    Comprehen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Book Antiqu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mposition Wri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3657600" cy="39625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l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4572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Book Antiqu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mprehension of Whole Numbers and Decim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Book Antiqu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a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Book Antiqu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tio and Propor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Book Antiqu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mprehension of Perc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Book Antiqu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obabi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Book Antiqu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teger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Book Antiqu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omet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Book Antiqu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ter Read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429000" cy="41911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09480" y="22096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Book Antiqu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rculatory</a:t>
            </a:r>
            <a:r>
              <a:rPr b="0" lang="en-US" sz="2400" spc="-1" strike="noStrike">
                <a:solidFill>
                  <a:srgbClr val="703d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nd Nervous</a:t>
            </a:r>
            <a:r>
              <a:rPr b="0" lang="en-US" sz="2400" spc="-1" strike="noStrike">
                <a:solidFill>
                  <a:srgbClr val="703dff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Book Antiqu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imals, Plants and the Environ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Book Antiqu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usehold Materi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Book Antiqu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erg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Book Antiqu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r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Book Antiqu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yond the Solar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4191120" cy="4419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l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1752480"/>
            <a:ext cx="7696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Book Antiqua"/>
              </a:rPr>
              <a:t>In Gregory Elementary School, </a:t>
            </a:r>
            <a:br>
              <a:rPr sz="4000"/>
            </a:br>
            <a:r>
              <a:rPr b="0" lang="en-US" sz="4000" spc="-1" strike="noStrike">
                <a:solidFill>
                  <a:srgbClr val="703dff"/>
                </a:solidFill>
                <a:latin typeface="Book Antiqua"/>
              </a:rPr>
              <a:t>your Child will </a:t>
            </a:r>
            <a:br>
              <a:rPr sz="4000"/>
            </a:br>
            <a:r>
              <a:rPr b="0" lang="en-US" sz="4000" spc="-1" strike="noStrike">
                <a:solidFill>
                  <a:srgbClr val="703dff"/>
                </a:solidFill>
                <a:latin typeface="Book Antiqua"/>
              </a:rPr>
              <a:t>have a </a:t>
            </a:r>
            <a:br>
              <a:rPr sz="4000"/>
            </a:br>
            <a:r>
              <a:rPr b="0" lang="en-US" sz="4000" spc="-1" strike="noStrike">
                <a:solidFill>
                  <a:srgbClr val="703dff"/>
                </a:solidFill>
                <a:latin typeface="Book Antiqua"/>
              </a:rPr>
              <a:t>BRIGHTER FUTURE 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l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680"/>
                            </p:stCondLst>
                            <p:childTnLst>
                              <p:par>
                                <p:cTn id="1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75742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2T11:48:44Z</dcterms:created>
  <dc:creator>Basil G. Bacote</dc:creator>
  <dc:description/>
  <dc:language>en-US</dc:language>
  <cp:lastModifiedBy>Basil G. Bacote</cp:lastModifiedBy>
  <dcterms:modified xsi:type="dcterms:W3CDTF">2011-10-02T15:52:15Z</dcterms:modified>
  <cp:revision>41</cp:revision>
  <dc:subject/>
  <dc:title>Gregory  Elementary Scho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